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D77-FCC2-46CD-9517-360290E4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714-A26D-4193-8726-B642C643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C68-59DA-4E15-A515-3C933824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7C4-1C8A-47E6-BAAC-7B896B0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77E31-E065-41AC-91DD-0CF7E29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571E4-4CFA-4C21-ABA9-13906ED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45054-64A2-4AB8-BCA0-1B2CA0E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8D92-BB0B-4B8F-B7E4-DE85A78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3D19C-D9CC-4CEB-BFC5-390379B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6C102-1F2E-494E-AEB2-12E6D87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C9B70-970B-4802-A9AB-E99C28B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E07-DCC5-43CD-AD69-8888E25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91FB-01E7-474D-97E5-1496976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34CE-860E-4962-ACE1-789722F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C5811-494C-495A-B96B-3746E9CC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474FE-76BB-472D-ACA5-31C62D76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DA064-738F-48F8-A388-3239356C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1FD-C7A8-4DE6-9D12-6053EAC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F17-748F-4413-8227-C48BD6AA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DC1-9F46-4603-8C22-C2EEC1C5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F6F-2507-409F-AEF1-43CD29A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60B-9D3A-4322-86D6-3B77C7A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3E8-7196-4E99-B7DF-87DE4A5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093-B33B-466E-8E5A-7938B3F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2DB-4DF3-42F1-A958-EEE475DA1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067-7B9F-4432-B752-33CB93CE1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kFaxNkbt2Y&amp;feature=related" TargetMode="External"/><Relationship Id="rId2" Type="http://schemas.openxmlformats.org/officeDocument/2006/relationships/hyperlink" Target="http://www.youtube.com/watch?v=0kFaxNkbt2Y&amp;feature=related" TargetMode="External"/><Relationship Id="rId3" Type="http://schemas.openxmlformats.org/officeDocument/2006/relationships/hyperlink" Target="http://www.youtube.com/watch?v=0kFaxNkbt2Y&amp;feature=related" TargetMode="External"/><Relationship Id="rId4" Type="http://schemas.openxmlformats.org/officeDocument/2006/relationships/hyperlink" Target="http://www.youtube.com/watch?v=D2dYNLwtRkc&amp;feature=related" TargetMode="External"/><Relationship Id="rId5" Type="http://schemas.openxmlformats.org/officeDocument/2006/relationships/hyperlink" Target="http://www.youtube.com/watch?v=D2dYNLwtRkc&amp;feature=related" TargetMode="External"/><Relationship Id="rId6" Type="http://schemas.openxmlformats.org/officeDocument/2006/relationships/hyperlink" Target="http://www.youtube.com/watch?v=D2dYNLwtRkc&amp;feature=related" TargetMode="External"/><Relationship Id="rId7" Type="http://schemas.openxmlformats.org/officeDocument/2006/relationships/hyperlink" Target="http://www.youtube.com/watch?v=9z4N7-yourw&amp;feature=related" TargetMode="External"/><Relationship Id="rId8" Type="http://schemas.openxmlformats.org/officeDocument/2006/relationships/hyperlink" Target="http://www.youtube.com/watch?v=9z4N7-yourw&amp;feature=related" TargetMode="External"/><Relationship Id="rId9" Type="http://schemas.openxmlformats.org/officeDocument/2006/relationships/hyperlink" Target="http://www.youtube.com/watch?v=9z4N7-yourw&amp;feature=related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anadian Seal Hu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752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About the Canadian Seal Hunt."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umane Soceity of the United St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SUS, n.d. Web. 16 Feb. 2010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[code]] &lt;http://www.hsus.org/marine_mammals/protect_seals/about_the_canadian_seal_hunt/&gt;. //The Canadian Seal Hunt//. Humane Soceity of the United States, 2007. Web. 23 Feb. 2010. &lt;http://www.canadiansealhunt.com/organizations.html&gt;. "Six Facts of the Canadian Seal Hunt." //Canada International//. Her Majesty the Queen in Right of Canada, n.d. Web. 21 Feb. 2010. &lt;http://www.canadainternational.gc.ca/austria-autriche/ assets/pdfs/Seal_hunt_17jan05-e.pdf&gt;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u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sea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l hunting Is the personal or commercial hunt of se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tarted with Native Americans hunting for s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kind of right to manh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it has evolved into a massive industry with 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commerc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43400" y="447984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t happ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 is considered very valuable because of its warmth and its resistance to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sold to Europe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 Sealing industry rakes an annual income of about 16.5 m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al meat is sold to the Asian markets and the oil is taken as a fish oil sup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imal Rights Clai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Canada is not the only country that participates in the Sealing industry it is the most famous due to the constant animal rights pro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ight Protesters think the hakapik is inhumane and doesn’t always kill the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resulting in the hunter skinning the seal al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part of the seal i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upset for Seal Hunting is that hunters will kill specifically for the fur and will throw away the m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may threaten lifestyle of the Se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th statistics of the hunt do not include the seals that have been injured by hunters but got away. Only to die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kapik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a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 method is to hit the seal directly on the fore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will crush the skull and supposedly kill it i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rotest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e Society international is the chief protestor of the Canadian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scot is a young white seal known as a white coat… Even though they are illegal to kill at such a young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I calls for a boycott of all Canadian seafood… Unfortunately the Asian and American markets won’t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elebrity Att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Harp Seals are not an endangered species and their population is constantly monitor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celebrities varying from Paul McCartney and Paris Hilton have done concerts to speak out against the seal h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 Canadian Seal Hunters don’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k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0kFaxNkbt2Y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=D2dYNLwtRkc&amp;feature=related</a:t>
            </a:r>
            <a:br>
              <a:rPr sz="3200"/>
            </a:b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www.youtube.com/watch?v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=9z4N7-yourw&amp;feature=rel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54:07Z</dcterms:created>
  <dc:creator>SASD</dc:creator>
  <dc:description/>
  <dc:language>en-US</dc:language>
  <cp:lastModifiedBy>SASD</cp:lastModifiedBy>
  <dcterms:modified xsi:type="dcterms:W3CDTF">2010-03-03T14:56:32Z</dcterms:modified>
  <cp:revision>8</cp:revision>
  <dc:subject/>
  <dc:title>Canadian Seal Hunt</dc:title>
</cp:coreProperties>
</file>